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D39-AE1E-45C4-92AF-CF641419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094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40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3729-8EA6-41CD-83E7-49C6FF63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094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094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40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40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F21-3B5C-4765-9A8A-0DB3C618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094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094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094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40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40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40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699-410E-4F1E-A44A-2ADAECEB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094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9FE-5ADA-4257-AB25-07952B3C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094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D7C-9A75-4D40-A38E-7F70D104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094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094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98BD-1D01-4004-BF5E-3A2529FB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AFB6-1D9B-42E7-86B0-26D2E75D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CEDB-B59B-4741-87F0-71E4D445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094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094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40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9D8-FEC4-4F2A-AE4D-E7F3D2EA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094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094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40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D4E-030A-464A-ABC3-388BBCDA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094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094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40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A7E-1579-4142-9AB0-935A8FF1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094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marL="291960" indent="-2919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426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195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65120" indent="-1951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54280" indent="-1954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54280" indent="-1954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54280" indent="-1954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1600"/>
            <a:ext cx="1600200" cy="6876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1600"/>
            <a:ext cx="2171520" cy="6876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1600"/>
            <a:ext cx="1600200" cy="6876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41F7-FF3D-428B-8672-CD6F48E22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1"/>
          <p:cNvSpPr/>
          <p:nvPr/>
        </p:nvSpPr>
        <p:spPr>
          <a:xfrm>
            <a:off x="5676840" y="239400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451080" y="9144000"/>
            <a:ext cx="239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ndara"/>
              </a:rPr>
              <a:t>Rooms and Facilities Superviso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4185000" y="9144000"/>
            <a:ext cx="2277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ndara"/>
              </a:rPr>
              <a:t>Rooms and Facilities 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9"/>
          <p:cNvSpPr/>
          <p:nvPr/>
        </p:nvSpPr>
        <p:spPr>
          <a:xfrm>
            <a:off x="743040" y="9067680"/>
            <a:ext cx="184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20"/>
          <p:cNvSpPr/>
          <p:nvPr/>
        </p:nvSpPr>
        <p:spPr>
          <a:xfrm>
            <a:off x="4381560" y="9067680"/>
            <a:ext cx="184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21"/>
          <p:cNvSpPr txBox="1"/>
          <p:nvPr/>
        </p:nvSpPr>
        <p:spPr>
          <a:xfrm>
            <a:off x="1600200" y="1371600"/>
            <a:ext cx="3657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 Antiqua"/>
              </a:rPr>
              <a:t>ROOMS &amp; FACILITIES SERVICES</a:t>
            </a:r>
            <a:endParaRPr b="1" lang="en-US" sz="28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 Antiqua"/>
              <a:ea typeface="Book Antiqua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61800" y="2844720"/>
            <a:ext cx="6183360" cy="552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371520" y="2467080"/>
            <a:ext cx="199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2362320" y="246708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2657520" y="2481120"/>
            <a:ext cx="251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 S I G N M E N T 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3"/>
          <p:cNvSpPr/>
          <p:nvPr/>
        </p:nvSpPr>
        <p:spPr>
          <a:xfrm>
            <a:off x="361800" y="3397320"/>
            <a:ext cx="618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4"/>
          <p:cNvSpPr/>
          <p:nvPr/>
        </p:nvSpPr>
        <p:spPr>
          <a:xfrm>
            <a:off x="361800" y="2844720"/>
            <a:ext cx="618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5"/>
          <p:cNvSpPr/>
          <p:nvPr/>
        </p:nvSpPr>
        <p:spPr>
          <a:xfrm>
            <a:off x="361800" y="3949560"/>
            <a:ext cx="618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6"/>
          <p:cNvSpPr/>
          <p:nvPr/>
        </p:nvSpPr>
        <p:spPr>
          <a:xfrm>
            <a:off x="361800" y="4502160"/>
            <a:ext cx="618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7"/>
          <p:cNvSpPr/>
          <p:nvPr/>
        </p:nvSpPr>
        <p:spPr>
          <a:xfrm>
            <a:off x="361800" y="5054760"/>
            <a:ext cx="618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8"/>
          <p:cNvSpPr/>
          <p:nvPr/>
        </p:nvSpPr>
        <p:spPr>
          <a:xfrm>
            <a:off x="361800" y="5607000"/>
            <a:ext cx="618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9"/>
          <p:cNvSpPr/>
          <p:nvPr/>
        </p:nvSpPr>
        <p:spPr>
          <a:xfrm>
            <a:off x="361800" y="6159600"/>
            <a:ext cx="618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0"/>
          <p:cNvSpPr/>
          <p:nvPr/>
        </p:nvSpPr>
        <p:spPr>
          <a:xfrm>
            <a:off x="361800" y="6711840"/>
            <a:ext cx="618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1"/>
          <p:cNvSpPr/>
          <p:nvPr/>
        </p:nvSpPr>
        <p:spPr>
          <a:xfrm>
            <a:off x="361800" y="7264440"/>
            <a:ext cx="618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2"/>
          <p:cNvSpPr/>
          <p:nvPr/>
        </p:nvSpPr>
        <p:spPr>
          <a:xfrm>
            <a:off x="361800" y="7816680"/>
            <a:ext cx="618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3"/>
          <p:cNvSpPr/>
          <p:nvPr/>
        </p:nvSpPr>
        <p:spPr>
          <a:xfrm>
            <a:off x="371520" y="8423280"/>
            <a:ext cx="618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4"/>
          <p:cNvSpPr/>
          <p:nvPr/>
        </p:nvSpPr>
        <p:spPr>
          <a:xfrm>
            <a:off x="361800" y="2368440"/>
            <a:ext cx="6181920" cy="43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5"/>
          <p:cNvSpPr/>
          <p:nvPr/>
        </p:nvSpPr>
        <p:spPr>
          <a:xfrm>
            <a:off x="361800" y="2800440"/>
            <a:ext cx="6181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6"/>
          <p:cNvSpPr/>
          <p:nvPr/>
        </p:nvSpPr>
        <p:spPr>
          <a:xfrm>
            <a:off x="361800" y="2397240"/>
            <a:ext cx="6181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8"/>
          <p:cNvSpPr/>
          <p:nvPr/>
        </p:nvSpPr>
        <p:spPr>
          <a:xfrm>
            <a:off x="2971800" y="2844720"/>
            <a:ext cx="0" cy="552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9"/>
          <p:cNvSpPr/>
          <p:nvPr/>
        </p:nvSpPr>
        <p:spPr>
          <a:xfrm>
            <a:off x="2362320" y="2844720"/>
            <a:ext cx="0" cy="552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1"/>
          <p:cNvSpPr/>
          <p:nvPr/>
        </p:nvSpPr>
        <p:spPr>
          <a:xfrm>
            <a:off x="2971800" y="24130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2"/>
          <p:cNvSpPr/>
          <p:nvPr/>
        </p:nvSpPr>
        <p:spPr>
          <a:xfrm>
            <a:off x="2362320" y="24130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55"/>
          <p:cNvGrpSpPr/>
          <p:nvPr/>
        </p:nvGrpSpPr>
        <p:grpSpPr>
          <a:xfrm>
            <a:off x="4773960" y="2101680"/>
            <a:ext cx="1769760" cy="261360"/>
            <a:chOff x="4773960" y="2101680"/>
            <a:chExt cx="1769760" cy="261360"/>
          </a:xfrm>
        </p:grpSpPr>
        <p:sp>
          <p:nvSpPr>
            <p:cNvPr id="70" name="Line 56"/>
            <p:cNvSpPr/>
            <p:nvPr/>
          </p:nvSpPr>
          <p:spPr>
            <a:xfrm>
              <a:off x="5375160" y="2292480"/>
              <a:ext cx="116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57"/>
            <p:cNvSpPr/>
            <p:nvPr/>
          </p:nvSpPr>
          <p:spPr>
            <a:xfrm>
              <a:off x="4773960" y="2101680"/>
              <a:ext cx="64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ATE :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WordArt 21"/>
          <p:cNvSpPr txBox="1"/>
          <p:nvPr/>
        </p:nvSpPr>
        <p:spPr>
          <a:xfrm>
            <a:off x="2286000" y="1600200"/>
            <a:ext cx="23623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 Antiqua"/>
              </a:rPr>
              <a:t>DAILY ROUTINE AND</a:t>
            </a:r>
            <a:endParaRPr b="1" lang="en-US" sz="15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 Antiqua"/>
              <a:ea typeface="Book Antiqua"/>
            </a:endParaRPr>
          </a:p>
        </p:txBody>
      </p:sp>
      <p:sp>
        <p:nvSpPr>
          <p:cNvPr id="73" name="WordArt 21"/>
          <p:cNvSpPr txBox="1"/>
          <p:nvPr/>
        </p:nvSpPr>
        <p:spPr>
          <a:xfrm>
            <a:off x="1905120" y="1828800"/>
            <a:ext cx="31240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 Antiqua"/>
              </a:rPr>
              <a:t>SPECIAL ASSIGNMENTS FORM</a:t>
            </a:r>
            <a:endParaRPr b="1" lang="en-US" sz="28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 Antiqua"/>
              <a:ea typeface="Book Antiqua"/>
            </a:endParaRPr>
          </a:p>
        </p:txBody>
      </p:sp>
      <p:sp>
        <p:nvSpPr>
          <p:cNvPr id="74" name="Line 38"/>
          <p:cNvSpPr/>
          <p:nvPr/>
        </p:nvSpPr>
        <p:spPr>
          <a:xfrm>
            <a:off x="5676840" y="2857680"/>
            <a:ext cx="0" cy="552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5581800" y="2484360"/>
            <a:ext cx="106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ORM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4381560" y="9524880"/>
            <a:ext cx="224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1200" spc="-1" strike="noStrike">
                <a:solidFill>
                  <a:srgbClr val="000000"/>
                </a:solidFill>
                <a:latin typeface="Calibri"/>
              </a:rPr>
              <a:t>DAP-AMC-F59, Rev.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39"/>
          <p:cNvSpPr/>
          <p:nvPr/>
        </p:nvSpPr>
        <p:spPr>
          <a:xfrm>
            <a:off x="4867200" y="242424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708440" y="2479680"/>
            <a:ext cx="106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0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9290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10Z</dcterms:created>
  <dc:creator>dapcc</dc:creator>
  <dc:description/>
  <dc:language>en-US</dc:language>
  <cp:lastModifiedBy>MRH</cp:lastModifiedBy>
  <cp:lastPrinted>2014-07-01T05:52:07Z</cp:lastPrinted>
  <dcterms:modified xsi:type="dcterms:W3CDTF">2016-11-10T07:47:45Z</dcterms:modified>
  <cp:revision>66</cp:revision>
  <dc:subject/>
  <dc:title>Slide 1</dc:title>
</cp:coreProperties>
</file>