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AC2-D91B-4B0A-B108-8E72A39A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830-E398-4549-9023-888CD9D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456-C10A-47C3-A5B8-8F0E9E6E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177-0C31-434E-A419-9B384C17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091-71AF-4BCC-A45C-017E0BDA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DC4-0A20-4C38-BF87-301C7FEC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6A0-6886-4B28-A950-7C171554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814-B008-4B77-8FE9-D55D3601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334-D023-4C3A-B750-2C3675B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72B-BC08-406A-A4F6-9DCE908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ADB-C620-45A5-86DD-2948945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7E9-DF24-4975-9B8F-B5C05D9D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5E79-B75D-47CF-9F94-7ACD0BE35D6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809880" y="517680"/>
            <a:ext cx="29638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DAILY COLLECTION REPORT</a:t>
            </a:r>
            <a:endParaRPr b="1" lang="en-US" sz="19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72960" y="914400"/>
            <a:ext cx="63961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06880" y="95400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sia"/>
                <a:ea typeface="Arial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266640" y="95400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sia"/>
                <a:ea typeface="Arial"/>
              </a:rPr>
              <a:t>P A R T I C U L A R 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121400" y="957240"/>
            <a:ext cx="113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sia"/>
                <a:ea typeface="Arial"/>
              </a:rPr>
              <a:t>SALES INVOICE #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742000" y="94788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sia"/>
                <a:ea typeface="Arial"/>
              </a:rPr>
              <a:t>A M O U N 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 flipV="1">
            <a:off x="5551560" y="9298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2246400" y="9298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V="1">
            <a:off x="1135080" y="9298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 flipH="1">
            <a:off x="359640" y="1235160"/>
            <a:ext cx="6419880" cy="21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353880" y="1228680"/>
            <a:ext cx="642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353880" y="144792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353880" y="166680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353880" y="188604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353880" y="210492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353880" y="232416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353880" y="254304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353880" y="276228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353880" y="298116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353880" y="320040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353880" y="3419640"/>
            <a:ext cx="642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4707360" y="3516480"/>
            <a:ext cx="81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  O  T  A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5545080" y="3449520"/>
            <a:ext cx="1236600" cy="295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4"/>
          <p:cNvSpPr/>
          <p:nvPr/>
        </p:nvSpPr>
        <p:spPr>
          <a:xfrm>
            <a:off x="353880" y="3449520"/>
            <a:ext cx="5153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5"/>
          <p:cNvSpPr/>
          <p:nvPr/>
        </p:nvSpPr>
        <p:spPr>
          <a:xfrm flipV="1">
            <a:off x="1135080" y="123336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6"/>
          <p:cNvSpPr/>
          <p:nvPr/>
        </p:nvSpPr>
        <p:spPr>
          <a:xfrm flipV="1">
            <a:off x="2246400" y="122400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7"/>
          <p:cNvSpPr/>
          <p:nvPr/>
        </p:nvSpPr>
        <p:spPr>
          <a:xfrm flipV="1">
            <a:off x="5545080" y="1213920"/>
            <a:ext cx="0" cy="217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8"/>
          <p:cNvSpPr txBox="1"/>
          <p:nvPr/>
        </p:nvSpPr>
        <p:spPr>
          <a:xfrm>
            <a:off x="3809880" y="193680"/>
            <a:ext cx="29718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FRONT OFFICE</a:t>
            </a:r>
            <a:endParaRPr b="1" lang="en-US" sz="19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grpSp>
        <p:nvGrpSpPr>
          <p:cNvPr id="69" name="Group 39"/>
          <p:cNvGrpSpPr/>
          <p:nvPr/>
        </p:nvGrpSpPr>
        <p:grpSpPr>
          <a:xfrm>
            <a:off x="5492880" y="3451320"/>
            <a:ext cx="307080" cy="322200"/>
            <a:chOff x="5492880" y="3451320"/>
            <a:chExt cx="307080" cy="322200"/>
          </a:xfrm>
        </p:grpSpPr>
        <p:sp>
          <p:nvSpPr>
            <p:cNvPr id="70" name="Text Box 40"/>
            <p:cNvSpPr/>
            <p:nvPr/>
          </p:nvSpPr>
          <p:spPr>
            <a:xfrm>
              <a:off x="5492880" y="3451320"/>
              <a:ext cx="307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41"/>
            <p:cNvGrpSpPr/>
            <p:nvPr/>
          </p:nvGrpSpPr>
          <p:grpSpPr>
            <a:xfrm>
              <a:off x="5576760" y="3572280"/>
              <a:ext cx="152280" cy="28440"/>
              <a:chOff x="5576760" y="3572280"/>
              <a:chExt cx="152280" cy="28440"/>
            </a:xfrm>
          </p:grpSpPr>
          <p:sp>
            <p:nvSpPr>
              <p:cNvPr id="72" name="Line 42"/>
              <p:cNvSpPr/>
              <p:nvPr/>
            </p:nvSpPr>
            <p:spPr>
              <a:xfrm>
                <a:off x="5576760" y="35722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43"/>
              <p:cNvSpPr/>
              <p:nvPr/>
            </p:nvSpPr>
            <p:spPr>
              <a:xfrm>
                <a:off x="5576760" y="36007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Text Box 101"/>
          <p:cNvSpPr/>
          <p:nvPr/>
        </p:nvSpPr>
        <p:spPr>
          <a:xfrm>
            <a:off x="1670040" y="4429080"/>
            <a:ext cx="16682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Manager, Rooms &amp; Facilities Servic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2"/>
          <p:cNvSpPr/>
          <p:nvPr/>
        </p:nvSpPr>
        <p:spPr>
          <a:xfrm>
            <a:off x="693360" y="4313160"/>
            <a:ext cx="986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ertified Correct by 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3"/>
          <p:cNvSpPr/>
          <p:nvPr/>
        </p:nvSpPr>
        <p:spPr>
          <a:xfrm>
            <a:off x="5059080" y="4422600"/>
            <a:ext cx="8481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irector, DAPC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4"/>
          <p:cNvSpPr/>
          <p:nvPr/>
        </p:nvSpPr>
        <p:spPr>
          <a:xfrm>
            <a:off x="4097160" y="4307040"/>
            <a:ext cx="581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Noted by 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7"/>
          <p:cNvSpPr/>
          <p:nvPr/>
        </p:nvSpPr>
        <p:spPr>
          <a:xfrm>
            <a:off x="1657440" y="4476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8"/>
          <p:cNvSpPr/>
          <p:nvPr/>
        </p:nvSpPr>
        <p:spPr>
          <a:xfrm>
            <a:off x="4648320" y="4476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14"/>
          <p:cNvGrpSpPr/>
          <p:nvPr/>
        </p:nvGrpSpPr>
        <p:grpSpPr>
          <a:xfrm>
            <a:off x="2443680" y="3781440"/>
            <a:ext cx="2259720" cy="335880"/>
            <a:chOff x="2443680" y="3781440"/>
            <a:chExt cx="2259720" cy="335880"/>
          </a:xfrm>
        </p:grpSpPr>
        <p:sp>
          <p:nvSpPr>
            <p:cNvPr id="81" name="Text Box 109"/>
            <p:cNvSpPr/>
            <p:nvPr/>
          </p:nvSpPr>
          <p:spPr>
            <a:xfrm>
              <a:off x="2443680" y="3781440"/>
              <a:ext cx="70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 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0"/>
            <p:cNvSpPr/>
            <p:nvPr/>
          </p:nvSpPr>
          <p:spPr>
            <a:xfrm>
              <a:off x="3112920" y="3940200"/>
              <a:ext cx="1590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3"/>
            <p:cNvSpPr/>
            <p:nvPr/>
          </p:nvSpPr>
          <p:spPr>
            <a:xfrm>
              <a:off x="3428640" y="3895560"/>
              <a:ext cx="9396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k Clerk on Dut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96"/>
          <p:cNvSpPr/>
          <p:nvPr/>
        </p:nvSpPr>
        <p:spPr>
          <a:xfrm>
            <a:off x="548640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DAP-AMC-F17, Rev.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374760" y="152280"/>
            <a:ext cx="31305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9:47:08Z</dcterms:created>
  <dc:creator>dapcc</dc:creator>
  <dc:description/>
  <dc:language>en-US</dc:language>
  <cp:lastModifiedBy>MRH</cp:lastModifiedBy>
  <dcterms:modified xsi:type="dcterms:W3CDTF">2016-11-10T06:18:48Z</dcterms:modified>
  <cp:revision>60</cp:revision>
  <dc:subject/>
  <dc:title>Slide 1</dc:title>
</cp:coreProperties>
</file>